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5528-88E4-41DE-BC5A-5307B2833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6989-5564-41DD-84FC-80F28390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952A-84CE-4FD6-A886-06BEB57B7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DCEF-4C6E-4A42-8AC3-D2D278F06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FEDA-5EFB-4F7E-ABB5-FAB0CCD4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D217-A03F-4097-B222-4F6CB59F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674A-699E-431E-9651-8461A642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C366-FB26-45D0-A18E-AD92AE22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752A-6592-410B-B27A-946D0844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0997-DA20-44BA-B0E8-75990D56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D8C7-6836-49DE-8901-A422AAB5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652C-D5BE-43A3-99E0-2D27EA97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A69E-D8AA-44A8-9243-3DDCDFBB5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11280" y="765000"/>
            <a:ext cx="3981600" cy="5534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516720" y="3573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R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 flipV="1">
            <a:off x="5364000" y="3645000"/>
            <a:ext cx="12240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4292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19280" y="4437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04000" y="1197000"/>
            <a:ext cx="1800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ORARY ROOF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HED AND TIED TO BOTTOM OF STACK TO KEEP SUNLIGHT AND MOISTURE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148000" y="1413000"/>
            <a:ext cx="1584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0920" y="836640"/>
            <a:ext cx="19447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IR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RYING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IMBER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02:15:25Z</dcterms:created>
  <dc:creator>gcheetham</dc:creator>
  <dc:description/>
  <dc:language>en-US</dc:language>
  <cp:lastModifiedBy>gcheetham</cp:lastModifiedBy>
  <dcterms:modified xsi:type="dcterms:W3CDTF">2005-03-16T02:21:40Z</dcterms:modified>
  <cp:revision>1</cp:revision>
  <dc:subject/>
  <dc:title>Slide 1</dc:title>
</cp:coreProperties>
</file>